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Quietschende_Reifen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444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A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459D97-6A5E-464C-8AEF-BD3BB1A51EC4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64C03C-00B3-4A81-9F4B-3AFA123285C9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dieser Folie in das Layout „leere Foli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oberen Teil der Folie den Text „Flintstones“ als WordArt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unteren Teil das Bild Hole_Flintstones.jpg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25EBB8-6FAD-4111-BBA1-47995C153A26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auf „Zweispaltiger Tex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pieren Sie den Text „...und der Rüsselstaubsauger“ in die zweite Sp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dnen Sie in der ersten Spalte Bild und Text so an, daß das Bild oben und der Text darunter ste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Rüsselstaubsauger“ soll beim Erscheinen ro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62F8DA-AAF6-4E75-BB66-E3F81FD291DA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ändern sie Form und Ausrichtung von Textfeld und Bild so, daß sich der Text links und das Bild rechts be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9996C-3583-4920-8323-0131BDC5FC3A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Barney und Fred im Auto“ soll automatisch nach 2 Sekunden erschei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s Eingangseffekt wählen Sie „Text“ und „von links oben“, als Geräusch wählen Sie „Motor“ oder „quietschende Reif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3D5-28CA-4E3E-84B0-B1C1C586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E22-B4C8-40BB-8F54-F584450E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4A9-D5E7-417B-B832-012837FC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838-9CDC-41DD-89A4-4BB248DE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3E13-3BEF-4B35-9501-25089768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D060-31AF-484A-B9BB-80E4A370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1B57-47AD-43B6-9168-526590D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8BCA-3548-46BA-89B3-7A362003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1006-62D4-4642-B858-E2630ABB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BCB-F81D-43C8-AE34-E9970406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6D44-1C1E-421F-A90F-A204E70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5F8-5AFF-454F-8671-FC71A438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9790-072E-4D14-85F9-B1A7BCB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DCEC-309A-473C-974D-159668C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2407-11B7-4B08-9AAF-96E3C48B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6464-F93A-4FC8-9328-D5199B8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B14E-3B2B-40ED-AD98-2C4C8E5F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EE3-3FD8-4381-A099-5BD26D2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016-498E-4B37-B29F-99F11F84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D77-C11B-4BA1-B3E8-0A228D7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206-DB65-41DF-BE51-EC3BBD1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ECE-F65D-46A4-89AA-4A226C7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C22-C289-47F2-A334-DCFDDD0D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F6C-DAE3-4757-AFDA-1818F06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9F27-D1A7-4CCF-A6CD-CA1622B9EE1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8F4D-218A-4A27-A4F7-EB2C00F7F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454800">
            <a:off x="7236000" y="549000"/>
            <a:ext cx="1439640" cy="1224000"/>
          </a:xfrm>
          <a:prstGeom prst="star5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49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ngen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DFD8-AF2D-4885-839D-37CCB219548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940-7789-4CF1-8D90-D7C2CAB58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Quietschende_Reife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652200">
            <a:off x="2268360" y="105264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Flint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1435600">
            <a:off x="2975040" y="2928600"/>
            <a:ext cx="3529080" cy="25416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2800" y="658440"/>
            <a:ext cx="613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Nicht zu vergessen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5373720"/>
            <a:ext cx="3809880" cy="730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Lowen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6520" y="1989000"/>
            <a:ext cx="381024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und der Rüsselstaubsauger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20" name="Picture 5" descr="D:\Kurs 4015\Präsentationen\Flintstones\Russelstaubsauger.jpg"/>
          <p:cNvPicPr/>
          <p:nvPr/>
        </p:nvPicPr>
        <p:blipFill>
          <a:blip r:embed="rId1"/>
          <a:stretch/>
        </p:blipFill>
        <p:spPr>
          <a:xfrm>
            <a:off x="5435640" y="4221000"/>
            <a:ext cx="228600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Kurs 4015\Präsentationen\Flintstones\Pebbles_mit_Lowen.jpg"/>
          <p:cNvPicPr/>
          <p:nvPr/>
        </p:nvPicPr>
        <p:blipFill>
          <a:blip r:embed="rId2"/>
          <a:stretch/>
        </p:blipFill>
        <p:spPr>
          <a:xfrm>
            <a:off x="1187280" y="2205000"/>
            <a:ext cx="2286000" cy="2639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CDF-07F1-40AD-9D9D-A7C9C516B516}" type="slidenum">
              <a:t>10</a:t>
            </a:fld>
          </a:p>
        </p:txBody>
      </p:sp>
    </p:spTree>
  </p:cSld>
  <p:transition advTm="5000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Times New Roman"/>
              </a:rPr>
              <a:t>Die Flintstones im Überbli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4360" y="1989000"/>
            <a:ext cx="7771680" cy="4114080"/>
            <a:chOff x="684360" y="1989000"/>
            <a:chExt cx="7771680" cy="4114080"/>
          </a:xfrm>
        </p:grpSpPr>
        <p:cxnSp>
          <p:nvCxnSpPr>
            <p:cNvPr id="124" name="_s34847"/>
            <p:cNvCxnSpPr>
              <a:stCxn id="125" idx="1"/>
              <a:endCxn id="126" idx="2"/>
            </p:cNvCxnSpPr>
            <p:nvPr/>
          </p:nvCxnSpPr>
          <p:spPr>
            <a:xfrm rot="10800000">
              <a:off x="3883680" y="4339440"/>
              <a:ext cx="4575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4845"/>
            <p:cNvCxnSpPr>
              <a:stCxn id="128" idx="3"/>
              <a:endCxn id="126" idx="2"/>
            </p:cNvCxnSpPr>
            <p:nvPr/>
          </p:nvCxnSpPr>
          <p:spPr>
            <a:xfrm flipV="1">
              <a:off x="3426840" y="4340160"/>
              <a:ext cx="4575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4843"/>
            <p:cNvCxnSpPr>
              <a:stCxn id="130" idx="3"/>
              <a:endCxn id="126" idx="2"/>
            </p:cNvCxnSpPr>
            <p:nvPr/>
          </p:nvCxnSpPr>
          <p:spPr>
            <a:xfrm flipV="1">
              <a:off x="3426840" y="4339800"/>
              <a:ext cx="4575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4833"/>
            <p:cNvCxnSpPr>
              <a:stCxn id="132" idx="0"/>
              <a:endCxn id="133" idx="2"/>
            </p:cNvCxnSpPr>
            <p:nvPr/>
          </p:nvCxnSpPr>
          <p:spPr>
            <a:xfrm flipV="1">
              <a:off x="7084440" y="3458160"/>
              <a:ext cx="324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34831"/>
            <p:cNvCxnSpPr>
              <a:stCxn id="126" idx="0"/>
              <a:endCxn id="135" idx="2"/>
            </p:cNvCxnSpPr>
            <p:nvPr/>
          </p:nvCxnSpPr>
          <p:spPr>
            <a:xfrm flipV="1">
              <a:off x="3884040" y="3458160"/>
              <a:ext cx="324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34827"/>
            <p:cNvCxnSpPr>
              <a:stCxn id="133" idx="0"/>
              <a:endCxn id="137" idx="2"/>
            </p:cNvCxnSpPr>
            <p:nvPr/>
          </p:nvCxnSpPr>
          <p:spPr>
            <a:xfrm flipV="1" rot="16200000">
              <a:off x="6136920" y="1922760"/>
              <a:ext cx="294480" cy="1600920"/>
            </a:xfrm>
            <a:prstGeom prst="bentConnector3">
              <a:avLst>
                <a:gd name="adj1" fmla="val 38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34826"/>
            <p:cNvCxnSpPr>
              <a:stCxn id="135" idx="0"/>
              <a:endCxn id="137" idx="2"/>
            </p:cNvCxnSpPr>
            <p:nvPr/>
          </p:nvCxnSpPr>
          <p:spPr>
            <a:xfrm flipH="1" flipV="1" rot="5400000">
              <a:off x="4536720" y="1923120"/>
              <a:ext cx="294480" cy="1600200"/>
            </a:xfrm>
            <a:prstGeom prst="bentConnector3">
              <a:avLst>
                <a:gd name="adj1" fmla="val 38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34822"/>
            <p:cNvSpPr/>
            <p:nvPr/>
          </p:nvSpPr>
          <p:spPr>
            <a:xfrm>
              <a:off x="4112640" y="198900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e zentralen Figur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34823"/>
            <p:cNvSpPr/>
            <p:nvPr/>
          </p:nvSpPr>
          <p:spPr>
            <a:xfrm>
              <a:off x="2512800" y="287064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Fred und Wilm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34824"/>
            <p:cNvSpPr/>
            <p:nvPr/>
          </p:nvSpPr>
          <p:spPr>
            <a:xfrm>
              <a:off x="5713200" y="287064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Betty und Barne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34830"/>
            <p:cNvSpPr/>
            <p:nvPr/>
          </p:nvSpPr>
          <p:spPr>
            <a:xfrm>
              <a:off x="2512800" y="375228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Tochter Pebb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34832"/>
            <p:cNvSpPr/>
            <p:nvPr/>
          </p:nvSpPr>
          <p:spPr>
            <a:xfrm>
              <a:off x="5713200" y="375228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BamBam mit der Keu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34842"/>
            <p:cNvSpPr/>
            <p:nvPr/>
          </p:nvSpPr>
          <p:spPr>
            <a:xfrm>
              <a:off x="684360" y="463392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n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er Haush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34844"/>
            <p:cNvSpPr/>
            <p:nvPr/>
          </p:nvSpPr>
          <p:spPr>
            <a:xfrm>
              <a:off x="684360" y="551556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Rüsselstaubsau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34846"/>
            <p:cNvSpPr/>
            <p:nvPr/>
          </p:nvSpPr>
          <p:spPr>
            <a:xfrm>
              <a:off x="4341600" y="463392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Low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e Katz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2E0-CFE6-4CC8-958A-6F2F7BE347A4}" type="slidenum">
              <a:t>11</a:t>
            </a:fld>
          </a:p>
        </p:txBody>
      </p:sp>
    </p:spTree>
  </p:cSld>
  <p:transition advTm="5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lintstones...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meet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're a modern stone age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the town of bedr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're a page right out of hi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t's ride with the family down the str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ugh the courtesy of Fred's two f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're with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a yabb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'll have a great old time.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41" name="Picture 4" descr="D:\Kurs 4015\Präsentationen\Flintstones\Dino_singend.jpg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188-DD04-4D98-B745-F74B64C07E58}" type="slidenum">
              <a:t>12</a:t>
            </a:fld>
          </a:p>
        </p:txBody>
      </p:sp>
    </p:spTree>
  </p:cSld>
  <p:transition advTm="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Fred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arney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eide Männer...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Fred und Wilma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Pebbles und Dino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etty und Barney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amBam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Pebbles und BamBam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Lowen und Rüsselstaubsauger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Überblick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Flintstones-Song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814-52FB-4974-B6E1-A7BC54F4535B}" type="slidenum">
              <a:t>2</a:t>
            </a:fld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658440"/>
            <a:ext cx="2465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Fre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5013360"/>
            <a:ext cx="7199280" cy="1442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Der ungestüme Fred ist der klassische Verlierer, der sich nie gegen seine Frau Wilma durchsetzen kann..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6" name="Picture 4" descr="D:\Kurs 4015\Präsentationen\Flintstones\Fred_mit_Matschbirne.jpg"/>
          <p:cNvPicPr/>
          <p:nvPr/>
        </p:nvPicPr>
        <p:blipFill>
          <a:blip r:embed="rId1"/>
          <a:stretch/>
        </p:blipFill>
        <p:spPr>
          <a:xfrm>
            <a:off x="5148360" y="1557360"/>
            <a:ext cx="2890800" cy="3505320"/>
          </a:xfrm>
          <a:prstGeom prst="rect">
            <a:avLst/>
          </a:prstGeom>
          <a:ln w="0">
            <a:noFill/>
          </a:ln>
        </p:spPr>
      </p:pic>
      <p:sp>
        <p:nvSpPr>
          <p:cNvPr id="97" name="PubOvalCallout"/>
          <p:cNvSpPr/>
          <p:nvPr/>
        </p:nvSpPr>
        <p:spPr>
          <a:xfrm rot="20382000">
            <a:off x="3779640" y="836280"/>
            <a:ext cx="2620800" cy="1655640"/>
          </a:xfrm>
          <a:custGeom>
            <a:avLst/>
            <a:gdLst>
              <a:gd name="textAreaLeft" fmla="*/ 383760 w 2620800"/>
              <a:gd name="textAreaRight" fmla="*/ 2237040 w 2620800"/>
              <a:gd name="textAreaTop" fmla="*/ 181800 h 1655640"/>
              <a:gd name="textAreaBottom" fmla="*/ 1060560 h 1655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ilmaa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381-3385-42B4-B71A-C0EAE16569A6}" type="slidenum">
              <a:t>3</a:t>
            </a:fld>
          </a:p>
        </p:txBody>
      </p:sp>
    </p:spTree>
  </p:cSld>
  <p:transition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arne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41960" y="1989000"/>
            <a:ext cx="41148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während sein bester Freund Barney Geröllheimer (Barney Rubble), der auf den ersten Blick etwas minderbemittelt wirkt, immer wieder als Glückspilz erweist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Picture 4" descr="D:\Kurs 4015\Präsentationen\Flintstones\Barney_3.jpg"/>
          <p:cNvPicPr/>
          <p:nvPr/>
        </p:nvPicPr>
        <p:blipFill>
          <a:blip r:embed="rId1"/>
          <a:stretch/>
        </p:blipFill>
        <p:spPr>
          <a:xfrm>
            <a:off x="1143000" y="2895480"/>
            <a:ext cx="2286000" cy="24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061-70C6-4313-B649-481FF33D11D6}" type="slidenum">
              <a:t>4</a:t>
            </a:fld>
          </a:p>
        </p:txBody>
      </p:sp>
    </p:spTree>
  </p:cSld>
  <p:transition advTm="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eide Männer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5120" y="4229280"/>
            <a:ext cx="3809880" cy="1752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arbeiten im Steinbruch von Mr.Schiefer (Mr.GeorgeSlate)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3" name="Picture 4" descr="D:\Kurs 4015\Präsentationen\Flintstones\Barney_und_Fred_im_Auto.jpg"/>
          <p:cNvPicPr/>
          <p:nvPr/>
        </p:nvPicPr>
        <p:blipFill>
          <a:blip r:embed="rId1"/>
          <a:stretch/>
        </p:blipFill>
        <p:spPr>
          <a:xfrm>
            <a:off x="5651640" y="4149720"/>
            <a:ext cx="228600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ACE-AF0E-42B9-AA10-1B690F7A372E}" type="slidenum">
              <a:t>5</a:t>
            </a:fld>
          </a:p>
        </p:txBody>
      </p:sp>
    </p:spTree>
  </p:cSld>
  <p:transition advTm="5000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ietschende_Reif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Fred und Wil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6000" y="4869000"/>
            <a:ext cx="4114800" cy="1218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Vervollständigt wird die Familie Feuerstein..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6" name="Picture 4" descr="D:\Kurs 4015\Präsentationen\Flintstones\Fred_and_Wilma_kussend.jpg"/>
          <p:cNvPicPr/>
          <p:nvPr/>
        </p:nvPicPr>
        <p:blipFill>
          <a:blip r:embed="rId1"/>
          <a:stretch/>
        </p:blipFill>
        <p:spPr>
          <a:xfrm>
            <a:off x="1066680" y="2133720"/>
            <a:ext cx="27590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A89-4985-4BFC-9760-339EB8A018C7}" type="slidenum">
              <a:t>6</a:t>
            </a:fld>
          </a:p>
        </p:txBody>
      </p:sp>
    </p:spTree>
  </p:cSld>
  <p:transition advTm="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Pebbles und Din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0200" y="1989000"/>
            <a:ext cx="38862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Durch die Tochter Pebbles, die im Februar 1963 das Licht der Urzeitwelt erblickt...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...und den Haushund Dino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9" name="Picture 4" descr="D:\Kurs 4015\Präsentationen\Flintstones\Dino_und_Pebbles_im_Rahmen.jpg"/>
          <p:cNvPicPr/>
          <p:nvPr/>
        </p:nvPicPr>
        <p:blipFill>
          <a:blip r:embed="rId1"/>
          <a:stretch/>
        </p:blipFill>
        <p:spPr>
          <a:xfrm>
            <a:off x="1371600" y="2666880"/>
            <a:ext cx="29034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BD7-98B9-45BD-AF95-03DAE8157ED1}" type="slidenum">
              <a:t>7</a:t>
            </a:fld>
          </a:p>
        </p:txBody>
      </p:sp>
    </p:spTree>
  </p:cSld>
  <p:transition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etty und Barne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95120" y="5257800"/>
            <a:ext cx="586764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Auch Barney und seine Frau Betty bleiben nicht lange kinderlos...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2" name="Picture 4" descr="Betty_and_Barney_1"/>
          <p:cNvPicPr/>
          <p:nvPr/>
        </p:nvPicPr>
        <p:blipFill>
          <a:blip r:embed="rId1"/>
          <a:stretch/>
        </p:blipFill>
        <p:spPr>
          <a:xfrm>
            <a:off x="1295280" y="25146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589-8F89-42EA-92AF-E59F08E63E98}" type="slidenum">
              <a:t>8</a:t>
            </a:fld>
          </a:p>
        </p:txBody>
      </p:sp>
    </p:spTree>
  </p:cSld>
  <p:transition advTm="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amBa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6400800" cy="2819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Im Herbst 1963 finden sie auf ihrer Türschwelle den bärenstarken Bamm-Bamm mit der Keule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5" name="Picture 4" descr="D:\Kurs 4015\Präsentationen\Flintstones\Bambam_und_Dino.jpg"/>
          <p:cNvPicPr/>
          <p:nvPr/>
        </p:nvPicPr>
        <p:blipFill>
          <a:blip r:embed="rId1"/>
          <a:stretch/>
        </p:blipFill>
        <p:spPr>
          <a:xfrm>
            <a:off x="6248520" y="2438280"/>
            <a:ext cx="2286000" cy="296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:\Kurs 4015\Präsentationen\Flintstones\Barney_mit_Bambam.jpg"/>
          <p:cNvPicPr/>
          <p:nvPr/>
        </p:nvPicPr>
        <p:blipFill>
          <a:blip r:embed="rId2"/>
          <a:stretch/>
        </p:blipFill>
        <p:spPr>
          <a:xfrm>
            <a:off x="2514600" y="3429000"/>
            <a:ext cx="228600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457-557F-4BAB-BA7B-DC1A5661135A}" type="slidenum">
              <a:t>9</a:t>
            </a:fld>
          </a:p>
        </p:txBody>
      </p:sp>
    </p:spTree>
  </p:cSld>
  <p:transition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53:55Z</dcterms:created>
  <dc:creator>Oliver Mochmann</dc:creator>
  <dc:description/>
  <dc:language>en-US</dc:language>
  <cp:lastModifiedBy>Administrator</cp:lastModifiedBy>
  <dcterms:modified xsi:type="dcterms:W3CDTF">2011-06-06T09:10:08Z</dcterms:modified>
  <cp:revision>18</cp:revision>
  <dc:subject/>
  <dc:title>PowerPoint-Präsentation</dc:title>
</cp:coreProperties>
</file>